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22-2023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Строка 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1.9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23-2024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Строка 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3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2024-2025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Строка 1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3.1</c:v>
                </c:pt>
              </c:numCache>
            </c:numRef>
          </c:val>
        </c:ser>
        <c:gapWidth val="100"/>
        <c:overlap val="0"/>
        <c:axId val="37733303"/>
        <c:axId val="60182811"/>
      </c:barChart>
      <c:catAx>
        <c:axId val="3773330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82811"/>
        <c:crosses val="autoZero"/>
        <c:auto val="1"/>
        <c:lblAlgn val="ctr"/>
        <c:lblOffset val="100"/>
        <c:noMultiLvlLbl val="0"/>
      </c:catAx>
      <c:valAx>
        <c:axId val="60182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33303"/>
        <c:crosses val="autoZero"/>
        <c:crossBetween val="between"/>
      </c:valAx>
      <c:spPr>
        <a:solidFill>
          <a:srgbClr val="ffffff"/>
        </a:solidFill>
        <a:ln w="0">
          <a:solidFill>
            <a:srgbClr val="ffffcc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828D2-667A-4B7E-95DE-42BE044ABC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BCCA0-3AE4-467F-BEFF-22139BF919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7CA9F-B7AE-41EC-87EE-D23B8ADA10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B9A43-4D92-4E12-9D65-23AD45694C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1F2F5-7F43-46D4-85CC-869BD13C95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40E50-8336-4B9D-B411-026189EA2D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727E7-C585-406E-B3DB-CE756F27B3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9B727-248D-459F-B42F-3EA65E4B57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E5C07-DE99-42A9-BBC5-7F6860A3A9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480F0-1E59-42C1-8B9B-24E7EC4E01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4A8AF-6F56-44BC-9E2C-1F849809A4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0B224-8786-49D9-A507-20EE02CA85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06D7E-B271-4A74-97B0-BA63574057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83D9-9EC0-452D-A79D-66E3C8B337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8C37-D662-4599-AB9D-F417750B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FF41-2E1B-4F61-9F2F-DB05B9A3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982E-701C-40D6-AD5C-9F489EACE6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E9EE2-79EB-4E42-95ED-8BB37FFB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B9FD8-F450-453E-966E-125F16DB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2254C-CBB9-4B84-A398-D932EC97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CF7C-B204-4C3B-9676-E3B48C62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24B4-29C8-4AA7-9E95-9D1FF255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885D-E364-48F7-BDC1-2FC9E267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E8FE3-3460-4386-AA2C-380BC01A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100C8-4443-4B5E-9EE1-4CD8F669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.09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3C9A9-0332-40C7-A462-8B35D23B10B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8B8EF-0A81-4CBA-9E41-856D56268A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684360" y="88272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1116000" y="549360"/>
            <a:ext cx="7056360" cy="3311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Анализ результатов   ОГЭ по математике </a:t>
            </a:r>
            <a:r>
              <a:rPr b="1" i="1" lang="en-US" sz="5400" spc="-1" strike="noStrike">
                <a:solidFill>
                  <a:srgbClr val="ffffff"/>
                </a:solidFill>
                <a:latin typeface="Calibri"/>
              </a:rPr>
              <a:t>2025</a:t>
            </a: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г.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68360" y="4221000"/>
            <a:ext cx="4753080" cy="194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Белова В.В., зав отд. ОЬ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Кинельский РЦ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Верчагина О.Г..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руководитель ОМО, учитель математики ГБОУ СОШ №4 пгт Алексее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ОО, продемонстрировавших наиболее изкие результаты ОГЭ по математ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EAF29-3DDD-4247-B669-5E3622295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60360" y="1440000"/>
            <a:ext cx="86011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C1F26-8F3E-405B-9ED3-197D31C93D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63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я , вызвавшие затруд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омендации учител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школам с низкими результатами ОГЭ по математ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курсы повышения квалификации на тему «Методика подготовки к итоговой аттестации по математике в форме ОГЭ», семинары по обмену опытом «Методы решения задач повышенной трудности», «Методика работы с отстающими по подготовке к ОГЭ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ять в работу систему наставничества (внутри школы и организовать пары (школы со стабильно хорошими результатами + школы с низкими результата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школам округа системно вести работу по отработке системы повторения, обобщения и систематизации учебного материала в целях подготовки к ОГЭ, уделяя особое внимание практико - ориентированным и геометрическим задач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C3685-50BD-4508-A713-2FCCA11BE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468360" y="11592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проведения ОГЭ по математи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льского округа в  2025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з пересдач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4286160"/>
          <a:ext cx="7850160" cy="2000520"/>
        </p:xfrm>
        <a:graphic>
          <a:graphicData uri="http://schemas.openxmlformats.org/drawingml/2006/table">
            <a:tbl>
              <a:tblPr/>
              <a:tblGrid>
                <a:gridCol w="1851120"/>
                <a:gridCol w="1925640"/>
                <a:gridCol w="2074680"/>
                <a:gridCol w="1998720"/>
              </a:tblGrid>
              <a:tr h="1182600">
                <a:tc>
                  <a:txBody>
                    <a:bodyPr lIns="9360" rIns="9360" tIns="75240" bIns="0" anchor="t">
                      <a:noAutofit/>
                    </a:bodyPr>
                    <a:p>
                      <a:pPr lvl="1" marL="457200"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Доля участников получивших «2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75240" bIns="0" anchor="t">
                      <a:noAutofit/>
                    </a:bodyPr>
                    <a:p>
                      <a:pPr lvl="1" marL="457200"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Доля участников получивших «3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75240" bIns="0" anchor="t">
                      <a:noAutofit/>
                    </a:bodyPr>
                    <a:p>
                      <a:pPr lvl="1" marL="457200"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Доля участников получивших «4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75240" bIns="0" anchor="t">
                      <a:noAutofit/>
                    </a:bodyPr>
                    <a:p>
                      <a:pPr lvl="1" marL="457200"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Доля участников получивших «5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817920"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% (127 чел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1600200"/>
          <a:ext cx="7850160" cy="2254320"/>
        </p:xfrm>
        <a:graphic>
          <a:graphicData uri="http://schemas.openxmlformats.org/drawingml/2006/table">
            <a:tbl>
              <a:tblPr/>
              <a:tblGrid>
                <a:gridCol w="1328760"/>
                <a:gridCol w="1290600"/>
                <a:gridCol w="1409760"/>
                <a:gridCol w="1272960"/>
                <a:gridCol w="1274760"/>
                <a:gridCol w="1273320"/>
              </a:tblGrid>
              <a:tr h="1655640">
                <a:tc>
                  <a:txBody>
                    <a:bodyPr lIns="9360" rIns="9360" tIns="7524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7524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ичество обуча-ющихся, сдававших предм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7524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балл по пятибальной шка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7524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преодолели минималь -ную границ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7524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ровень обучен -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7524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чество обу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598680">
                <a:tc>
                  <a:txBody>
                    <a:bodyPr lIns="9360" rIns="9360" tIns="7524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1600200"/>
          <a:ext cx="7850160" cy="2254320"/>
        </p:xfrm>
        <a:graphic>
          <a:graphicData uri="http://schemas.openxmlformats.org/drawingml/2006/table">
            <a:tbl>
              <a:tblPr/>
              <a:tblGrid>
                <a:gridCol w="1328760"/>
                <a:gridCol w="1290600"/>
                <a:gridCol w="1409760"/>
                <a:gridCol w="1272960"/>
                <a:gridCol w="1274760"/>
                <a:gridCol w="1273320"/>
              </a:tblGrid>
              <a:tr h="1655640">
                <a:tc>
                  <a:txBody>
                    <a:bodyPr lIns="9360" rIns="9360" tIns="7524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7524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ичество обуча-ющихся, сдававших предм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7524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балл по пятибальной шка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7524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преодолели минималь -ную границ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7524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ровень обучен -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7524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чество обу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598680">
                <a:tc>
                  <a:txBody>
                    <a:bodyPr lIns="9360" rIns="9360" tIns="7524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68360" y="4286160"/>
          <a:ext cx="7850160" cy="2000520"/>
        </p:xfrm>
        <a:graphic>
          <a:graphicData uri="http://schemas.openxmlformats.org/drawingml/2006/table">
            <a:tbl>
              <a:tblPr/>
              <a:tblGrid>
                <a:gridCol w="1851120"/>
                <a:gridCol w="1925640"/>
                <a:gridCol w="2074680"/>
                <a:gridCol w="1998720"/>
              </a:tblGrid>
              <a:tr h="1182600">
                <a:tc>
                  <a:txBody>
                    <a:bodyPr lIns="9360" rIns="9360" tIns="75240" bIns="0" anchor="t">
                      <a:noAutofit/>
                    </a:bodyPr>
                    <a:p>
                      <a:pPr lvl="1" marL="457200"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Доля участников получивших «2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75240" bIns="0" anchor="t">
                      <a:noAutofit/>
                    </a:bodyPr>
                    <a:p>
                      <a:pPr lvl="1" marL="457200"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Доля участников получивших «3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75240" bIns="0" anchor="t">
                      <a:noAutofit/>
                    </a:bodyPr>
                    <a:p>
                      <a:pPr lvl="1" marL="457200"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Доля участников получивших «4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75240" bIns="0" anchor="t">
                      <a:noAutofit/>
                    </a:bodyPr>
                    <a:p>
                      <a:pPr lvl="1" marL="457200"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Доля участников получивших «5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817920"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% (30 чел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752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60" name="Rectangle 77"/>
          <p:cNvSpPr/>
          <p:nvPr/>
        </p:nvSpPr>
        <p:spPr>
          <a:xfrm>
            <a:off x="468360" y="11592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проведения ОГЭ по математи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льского округа в  2025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ле пересдач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182520" y="720720"/>
            <a:ext cx="896148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57200" y="-52560"/>
            <a:ext cx="8229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балл ОГЭ по  5-балльной шкал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3 год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31040" cy="7412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424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22/20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424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23/20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2664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/20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61800">
                <a:tc>
                  <a:txBody>
                    <a:bodyPr lIns="68760" rIns="68760" tIns="424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3636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3636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2664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sp>
        <p:nvSpPr>
          <p:cNvPr id="64" name="Text Box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0A5AF-86FC-4CEF-BB42-E53CA6DBA4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" name="Object 29"/>
          <p:cNvGraphicFramePr/>
          <p:nvPr/>
        </p:nvGraphicFramePr>
        <p:xfrm>
          <a:off x="1441440" y="3419640"/>
          <a:ext cx="6118200" cy="3236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1840" y="2344320"/>
            <a:ext cx="82278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ля учащихся , не набравших минимальный балл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за 3 го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74520"/>
            <a:ext cx="822960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ГЭ по математике  на территор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льского округа в 2025году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48687-9F5E-40DB-AD92-1A06BBCEE0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1440000"/>
          <a:ext cx="7921800" cy="5010120"/>
        </p:xfrm>
        <a:graphic>
          <a:graphicData uri="http://schemas.openxmlformats.org/drawingml/2006/table">
            <a:tbl>
              <a:tblPr/>
              <a:tblGrid>
                <a:gridCol w="1919520"/>
                <a:gridCol w="1176120"/>
                <a:gridCol w="1544760"/>
                <a:gridCol w="1279440"/>
                <a:gridCol w="2001960"/>
              </a:tblGrid>
              <a:tr h="282240">
                <a:tc gridSpan="5">
                  <a:txBody>
                    <a:bodyPr lIns="0" rIns="0" tIns="68760" bIns="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560">
                <a:tc>
                  <a:txBody>
                    <a:bodyPr lIns="0" rIns="0" tIns="5148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5148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стн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5148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емость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5148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5148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480">
                <a:tc>
                  <a:txBody>
                    <a:bodyPr lIns="0" rIns="0" tIns="4392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52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9280">
                <a:tc>
                  <a:txBody>
                    <a:bodyPr lIns="0" rIns="0" tIns="4392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52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480">
                <a:tc>
                  <a:txBody>
                    <a:bodyPr lIns="0" rIns="0" tIns="4392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52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480">
                <a:tc>
                  <a:txBody>
                    <a:bodyPr lIns="0" rIns="0" tIns="4392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52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480">
                <a:tc>
                  <a:txBody>
                    <a:bodyPr lIns="0" rIns="0" tIns="4392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52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480">
                <a:tc>
                  <a:txBody>
                    <a:bodyPr lIns="0" rIns="0" tIns="4392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52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480">
                <a:tc>
                  <a:txBody>
                    <a:bodyPr lIns="0" rIns="0" tIns="4392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52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480">
                <a:tc>
                  <a:txBody>
                    <a:bodyPr lIns="0" rIns="0" tIns="4392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52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720">
                <a:tc>
                  <a:txBody>
                    <a:bodyPr lIns="0" rIns="0" tIns="4392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52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480">
                <a:tc>
                  <a:txBody>
                    <a:bodyPr lIns="0" rIns="0" tIns="43920" bIns="0" anchor="b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52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0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lIns="0" rIns="0" tIns="59040" bIns="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городу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406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406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59040" bIns="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59040" bIns="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-114480"/>
            <a:ext cx="82296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ГЭ по математике  на территор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льского округа в  2025 году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FC145-FBE5-4B48-9A86-8D084FFE19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26960" y="1179360"/>
          <a:ext cx="8390160" cy="5626080"/>
        </p:xfrm>
        <a:graphic>
          <a:graphicData uri="http://schemas.openxmlformats.org/drawingml/2006/table">
            <a:tbl>
              <a:tblPr/>
              <a:tblGrid>
                <a:gridCol w="2627280"/>
                <a:gridCol w="1270080"/>
                <a:gridCol w="1525680"/>
                <a:gridCol w="1271520"/>
                <a:gridCol w="1695600"/>
              </a:tblGrid>
              <a:tr h="503280">
                <a:tc>
                  <a:txBody>
                    <a:bodyPr lIns="0" rIns="0" tIns="5148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5148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стн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5148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емость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5148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5148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0" rIns="0" tIns="3888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каевская С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800">
                <a:tc>
                  <a:txBody>
                    <a:bodyPr lIns="0" rIns="0" tIns="3888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бровская С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0" rIns="0" tIns="3888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дановская С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0" rIns="0" tIns="3888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емалышевская О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68400" rIns="68400" tIns="3888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заевская С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68400" rIns="68400" tIns="3888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ргиевская С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68400" rIns="68400" tIns="3888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ашкинская С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68400" rIns="68400" tIns="3888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нельская С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68400" rIns="68400" tIns="3888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сомольская С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68400" rIns="68400" tIns="3888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осамарская С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68400" rIns="68400" tIns="3888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-малышевская С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68400" rIns="68400" tIns="3888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осарбайская С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68400" rIns="68400" tIns="3888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ская С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68400" rIns="68400" tIns="3888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феновская С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320">
                <a:tc>
                  <a:txBody>
                    <a:bodyPr lIns="68400" rIns="68400" tIns="3888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овская О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68400" rIns="68400" tIns="3888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ковская С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68400" rIns="68400" tIns="3888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ырейская С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68400" rIns="68400" tIns="3888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бовская СО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88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248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0" rIns="0" tIns="59040" bIns="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району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59040" bIns="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59040" bIns="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59040" bIns="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59040" bIns="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260280">
                <a:tc>
                  <a:txBody>
                    <a:bodyPr lIns="0" rIns="0" tIns="59040" bIns="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округу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59040" bIns="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59040" bIns="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59040" bIns="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59040" bIns="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79280" y="539640"/>
            <a:ext cx="882036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ОО, продемонстрировавших наиболее высокие результаты ОГЭ по математ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EFA39-B46C-439F-9AA2-18765F46C9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7882200" cy="37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7:42:30Z</dcterms:created>
  <dc:creator>Olga</dc:creator>
  <dc:description/>
  <dc:language>en-US</dc:language>
  <cp:lastModifiedBy>Вера</cp:lastModifiedBy>
  <cp:lastPrinted>2025-09-17T17:49:19Z</cp:lastPrinted>
  <dcterms:modified xsi:type="dcterms:W3CDTF">2025-09-18T12:15:23Z</dcterms:modified>
  <cp:revision>791</cp:revision>
  <dc:subject/>
  <dc:title>Распределение заданий экзаменационной работы по частям работы</dc:title>
</cp:coreProperties>
</file>